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710B3BBE-3857-4D93-B348-21E70200D1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6        T.Tammet     IT sissejuhatus loeng 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2BA174A5-7C38-4C1C-9B5B-A7514D1965F3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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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korraga esimene ja teine; esimene; järelikult mitte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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49640" y="2057400"/>
            <a:ext cx="253980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0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a: nominalistide ja realistide dihhotoom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2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3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4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4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43200" y="1846440"/>
            <a:ext cx="3429000" cy="77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5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1600200" y="1141200"/>
            <a:ext cx="1440" cy="16030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600200" y="2970000"/>
            <a:ext cx="1440" cy="16030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00200" y="4798800"/>
            <a:ext cx="1440" cy="16030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ätk eelmisest lo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te esitamise applet ja koduluge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olkonnad ees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, TÜ ja ITK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7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048120" y="437976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flipV="1">
            <a:off x="2895480" y="1062000"/>
            <a:ext cx="1800" cy="4276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12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5344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2760" y="2209680"/>
            <a:ext cx="122868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08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3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0: vaakumdioo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e de Forest: 1906: vaakumtrioo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4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kadeemilised IT-koolkonnad ees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lütehniline institu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llinna ülikoo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(A =&gt; B) =&gt; A) =&gt; 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8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8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41-1944: Z3, Z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leedega digitaalarvut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Geheimfernschreiber</a:t>
            </a:r>
            <a:r>
              <a:rPr b="1" lang="en-GB" sz="2400" spc="-1" strike="noStrike">
                <a:solidFill>
                  <a:srgbClr val="80808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 töötas välja Alan Turing, kes varem juhtis lihtsama ENIGMA dekodeeri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7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7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8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anarhist on süsteemi vastane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poliitikud on anarhisti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poliitikud on süsteemi vastas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8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